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7C0B-6F00-49A8-9223-E07B07573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1193-5076-4F3E-8F60-9CB64CBD2F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759D-ADEC-4051-91BF-B56BAA8CFB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FFBB-1E68-456C-AF0A-0FE27C5C72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66E2-6F32-4341-9B58-B16B4FB777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A79D-FA2D-4DB1-800E-B370384B95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465D-A569-4DA1-A1B7-7C8FCE9C85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B186-14A1-4D60-A44D-D057ACC8CF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862D-CEB9-4221-A6B1-875A9EE578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B610-E396-44B1-B14F-6B745F1511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7695-B8AC-477F-AEA6-FD8B76991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7D00-B71F-4D5C-94D5-4FBC29C8C0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2334-3E82-4FB0-BBB5-63669A735A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5069-907E-4D3C-81EF-0CCDF03318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0FB-CA8A-4A12-A25E-8D1BC07C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C2C-B5B5-4437-82EE-D04A77A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34D-BD82-49F2-92C7-9CB87368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D80-48DE-489D-937A-BD92D817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13A7-C795-4DB2-A63B-19EC29DD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3F33-7FC5-47FB-9EF1-9392A1C7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5F06-B052-454A-8975-E406091E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FE38-C89D-449E-831C-87A578BB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6781-DB92-4F30-BB40-FA91E683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973E-D1A1-47D5-8EF2-90CE2772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567A-0E06-4BBA-9AEF-40FE5131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433-DC11-4BB0-B714-B31F1F5B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6DF2-24CB-4186-B514-DC9746C6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12E0-A144-4443-911A-21FC837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59A9-C2BB-430D-B5AF-915A6E70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D0BA-4FCD-48A0-98F6-31ACFF09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C7C4-1231-40DA-B9CD-4481FEB2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AF0-9DA3-40E9-A951-881A3136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002-4053-464A-8D52-53BF76CA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CEE-F798-43C9-8F1E-E0C1053C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EF5-75BE-4506-BD28-6097493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C66-0A49-47D4-B8FD-EEDE8F3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B23-19CC-4672-A782-769B12F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017-57D5-490E-83D3-1BA87BEA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Rectangle 3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0" y="5797440"/>
                <a:ext cx="919080" cy="10764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89040" y="5797440"/>
                <a:ext cx="919080" cy="10764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1395360" y="5797440"/>
                <a:ext cx="920880" cy="10764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103480" y="5797440"/>
                <a:ext cx="919080" cy="107640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811600" y="5797440"/>
                <a:ext cx="919080" cy="10764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517920" y="5797440"/>
                <a:ext cx="920880" cy="10764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206960" y="5797440"/>
                <a:ext cx="919080" cy="107640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915080" y="5797440"/>
                <a:ext cx="919080" cy="107640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41920" y="5797440"/>
                <a:ext cx="919080" cy="107640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367320" y="5797440"/>
                <a:ext cx="919440" cy="10764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3600" y="5797440"/>
                <a:ext cx="919080" cy="107640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840800" y="5797440"/>
                <a:ext cx="919080" cy="107640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593200" y="6072120"/>
                <a:ext cx="574560" cy="80172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CB30-7D3F-4A32-831D-365F4CC46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5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Freeform 6"/>
                <p:cNvSpPr/>
                <p:nvPr/>
              </p:nvSpPr>
              <p:spPr>
                <a:xfrm>
                  <a:off x="0" y="5797440"/>
                  <a:ext cx="917640" cy="107640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7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8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9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0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11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12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3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4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16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17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18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Freeform 19"/>
            <p:cNvSpPr/>
            <p:nvPr/>
          </p:nvSpPr>
          <p:spPr>
            <a:xfrm>
              <a:off x="0" y="2760840"/>
              <a:ext cx="819000" cy="1449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198F-B9FE-4F64-8553-03B2167EE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GROUP I- CHEMISTR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RUCTURE OF THE ATOM” “FORCES WITHIN THE ATOM</a:t>
            </a: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By: Edjane T. Wencesla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ss Numb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07960" y="998640"/>
            <a:ext cx="86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s number is the number of protons and neutrons in the nucleu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733920" y="209700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ss # = p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+  n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9480" y="3125880"/>
          <a:ext cx="8220240" cy="3349440"/>
        </p:xfrm>
        <a:graphic>
          <a:graphicData uri="http://schemas.openxmlformats.org/drawingml/2006/table">
            <a:tbl>
              <a:tblPr/>
              <a:tblGrid>
                <a:gridCol w="3757680"/>
                <a:gridCol w="1017720"/>
                <a:gridCol w="939600"/>
                <a:gridCol w="939960"/>
                <a:gridCol w="156528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clid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3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3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ss #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yge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8"/>
          <p:cNvSpPr/>
          <p:nvPr/>
        </p:nvSpPr>
        <p:spPr>
          <a:xfrm>
            <a:off x="4708800" y="4105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6580440" y="4092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7740000" y="414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2233800" y="3983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626400" y="484344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Arse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2495880" y="48848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4"/>
          <p:cNvSpPr/>
          <p:nvPr/>
        </p:nvSpPr>
        <p:spPr>
          <a:xfrm>
            <a:off x="6490080" y="48848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5"/>
          <p:cNvSpPr/>
          <p:nvPr/>
        </p:nvSpPr>
        <p:spPr>
          <a:xfrm>
            <a:off x="7781400" y="4968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1"/>
          <p:cNvSpPr/>
          <p:nvPr/>
        </p:nvSpPr>
        <p:spPr>
          <a:xfrm>
            <a:off x="659160" y="568152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Phospho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62"/>
          <p:cNvSpPr/>
          <p:nvPr/>
        </p:nvSpPr>
        <p:spPr>
          <a:xfrm>
            <a:off x="6543000" y="5748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3"/>
          <p:cNvSpPr/>
          <p:nvPr/>
        </p:nvSpPr>
        <p:spPr>
          <a:xfrm>
            <a:off x="7754400" y="576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4"/>
          <p:cNvSpPr/>
          <p:nvPr/>
        </p:nvSpPr>
        <p:spPr>
          <a:xfrm>
            <a:off x="5546880" y="56912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# of neutrons = mass # -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. LI has a mass number of 7 and an atomic number of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=3 (same as 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= 7-3= 4 (mass #-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 has a mass number of 20 and an atomic number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 = 20 - 10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rmining the number of protons and neutr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about the electr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s are equal to the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p =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:  HE has a mass # of 4 and an atomic #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p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FORCES WITHIN THE ATOM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Times New Roman"/>
              </a:rPr>
              <a:t>S.MORRIS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is the external agency applied on a body to change its state of rest and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ic 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it is the force between charged particles such as the force between two electrons or the force between two current carrying wi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it is the strongest  of all the basic forces of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6172200" y="4724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CES WITHIN THE AT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ak Force&gt; is important in certain types of nuclear process such as radioactive dec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vity&gt; it is the weakest force among the fundamental force of nature but has the greatest large- scale impact on the uni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STRUCTURE OF THE ATOM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Times New Roman"/>
              </a:rPr>
              <a:t>S.MORRIS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is an ato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:  the smallest unit of matter that retains the identity of the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proposed by Democrat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 are composed of 2 reg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cleus:  the center of the atom that contains the mass of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 cloud:  region that surrounds the nucleus that contains most of the space in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4800600" y="4267080"/>
            <a:ext cx="1447920" cy="1447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5638680" y="48002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4038120" y="495288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66294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743200" y="46483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o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’s in the Nucle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ucleus contains 2 of the 3 subatomic partic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:  positive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:  neutral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’s in the Electron Clou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ubatomic particle resides outside of the nucleus in the electro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:  the subatomic particle with a negative charge and relatively no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exactly are the particles arrange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the a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viewers think this could lead to misconcepti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4267080" y="3581280"/>
            <a:ext cx="609840" cy="609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3886200" y="320040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3657600" y="2971800"/>
            <a:ext cx="1828800" cy="1828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3429000" y="2743200"/>
            <a:ext cx="228600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8"/>
          <p:cNvSpPr/>
          <p:nvPr/>
        </p:nvSpPr>
        <p:spPr>
          <a:xfrm>
            <a:off x="3200400" y="2514600"/>
            <a:ext cx="27432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 flipH="1">
            <a:off x="4723920" y="2971800"/>
            <a:ext cx="1676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55308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ll of the protons and the neutr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4495680" y="44197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4495680" y="30481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87692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5334120" y="3429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4876920" y="2971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16"/>
          <p:cNvSpPr/>
          <p:nvPr/>
        </p:nvSpPr>
        <p:spPr>
          <a:xfrm>
            <a:off x="411480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17"/>
          <p:cNvSpPr/>
          <p:nvPr/>
        </p:nvSpPr>
        <p:spPr>
          <a:xfrm>
            <a:off x="3733920" y="32767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18"/>
          <p:cNvSpPr/>
          <p:nvPr/>
        </p:nvSpPr>
        <p:spPr>
          <a:xfrm>
            <a:off x="4191120" y="289548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334120" y="41911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3657600" y="4114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655308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22"/>
          <p:cNvSpPr/>
          <p:nvPr/>
        </p:nvSpPr>
        <p:spPr>
          <a:xfrm flipH="1" flipV="1">
            <a:off x="5257800" y="3885840"/>
            <a:ext cx="1295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617220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24"/>
          <p:cNvSpPr/>
          <p:nvPr/>
        </p:nvSpPr>
        <p:spPr>
          <a:xfrm flipH="1" flipV="1">
            <a:off x="5257800" y="441936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2514600" y="373392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1066680" y="3352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1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1447920" y="43434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and any after can hold up to 3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9"/>
          <p:cNvSpPr/>
          <p:nvPr/>
        </p:nvSpPr>
        <p:spPr>
          <a:xfrm flipV="1">
            <a:off x="2819520" y="464796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these particles interact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atom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tomic Number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” of an element i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umber of prot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the nucleu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# protons in an atom = #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lectron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2989440"/>
          <a:ext cx="8237520" cy="3533760"/>
        </p:xfrm>
        <a:graphic>
          <a:graphicData uri="http://schemas.openxmlformats.org/drawingml/2006/table">
            <a:tbl>
              <a:tblPr/>
              <a:tblGrid>
                <a:gridCol w="2746440"/>
                <a:gridCol w="2744640"/>
                <a:gridCol w="27464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t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sphor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3:16:44Z</dcterms:created>
  <dc:creator> </dc:creator>
  <dc:description/>
  <dc:language>en-US</dc:language>
  <cp:lastModifiedBy>COMPUTER</cp:lastModifiedBy>
  <dcterms:modified xsi:type="dcterms:W3CDTF">2003-01-02T15:41:29Z</dcterms:modified>
  <cp:revision>61</cp:revision>
  <dc:subject/>
  <dc:title>Atomic Structure</dc:title>
</cp:coreProperties>
</file>